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AB5E-2A6A-4B07-959D-075AE89041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ороге домой из детского сада мы придумывали с мамой буквы б - баранковая, булавочная, м - мячиковая, мороженная. Но из этого букву сделать нельз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F073-9A3A-41C2-8873-8D6AF98ACF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амы в сумочке нашлись маленькие цветочки и ягодки. Вот сразу и придумались цветочная и ягодная бук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39D-4F2E-47FC-A208-1F21E56DB6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мы с братом отмеряли линейкой стороны, взяли ленточку, потом приклеили цветочки и получилась буква Ц - цветоч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1975-A39D-42D6-AA66-0158304B60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очень помог мой брат. Без него я бы не справи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3324-2CB9-4027-84F8-772EE581F4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зложил ягодки, а мама пришила их. Получилась буква ЯГОД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DDEA-4F73-4D6A-A25D-C3F5BE43F2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какие нарядные буквы получилис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6E28-DA44-48DC-81BD-CB0F866366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E98-9220-4F53-8AFF-F85FB37A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491-0EB9-49BB-B7C9-5B21CF2C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525-4F4A-48BC-AE12-F945DEA9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1AC-5291-496E-895A-A7DE9F6C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CBB-77B3-49DD-A30E-3D6521C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89B-A1A5-4CBF-B752-1EC3EDE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9BB-14C6-486E-95E3-67529748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3B7-94A0-49C5-9CCF-98C88BB7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925-EC91-425B-9DC1-A9C53186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3DC-D39B-427E-B37F-1357417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E05-38A5-47DA-AA8F-39F8FFFA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372-A1CD-446F-9FF2-A2CDF4A2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E526-7FEF-48F8-A29D-2671FC37F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1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cap="rnd" w="88920">
            <a:solidFill>
              <a:srgbClr val="0070c0"/>
            </a:solidFill>
            <a:custDash>
              <a:ds d="8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258920" y="263700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к я с братом делал бу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10"/>
          <p:cNvGrpSpPr/>
          <p:nvPr/>
        </p:nvGrpSpPr>
        <p:grpSpPr>
          <a:xfrm>
            <a:off x="0" y="3644640"/>
            <a:ext cx="4582800" cy="3101400"/>
            <a:chOff x="0" y="3644640"/>
            <a:chExt cx="4582800" cy="3101400"/>
          </a:xfrm>
        </p:grpSpPr>
        <p:pic>
          <p:nvPicPr>
            <p:cNvPr id="51" name="Рисунок 5" descr="nogn28.png"/>
            <p:cNvPicPr/>
            <p:nvPr/>
          </p:nvPicPr>
          <p:blipFill>
            <a:blip r:embed="rId1"/>
            <a:stretch/>
          </p:blipFill>
          <p:spPr>
            <a:xfrm rot="1311600">
              <a:off x="1001880" y="4005720"/>
              <a:ext cx="2164680" cy="11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Рисунок 7" descr="shop_items_catalog_image1596.png"/>
            <p:cNvPicPr/>
            <p:nvPr/>
          </p:nvPicPr>
          <p:blipFill>
            <a:blip r:embed="rId2"/>
            <a:stretch/>
          </p:blipFill>
          <p:spPr>
            <a:xfrm>
              <a:off x="0" y="3860640"/>
              <a:ext cx="213300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Рисунок 9" descr="cetvel.png"/>
            <p:cNvPicPr/>
            <p:nvPr/>
          </p:nvPicPr>
          <p:blipFill>
            <a:blip r:embed="rId3"/>
            <a:stretch/>
          </p:blipFill>
          <p:spPr>
            <a:xfrm rot="21231000">
              <a:off x="1151640" y="5001120"/>
              <a:ext cx="3356640" cy="156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Box 11"/>
          <p:cNvSpPr/>
          <p:nvPr/>
        </p:nvSpPr>
        <p:spPr>
          <a:xfrm>
            <a:off x="4356000" y="46530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имур Л. 6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учитель-логопед  Добрынина Окса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2411280" y="54936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ГБОУ СОШ № 9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Дошкольное отделение № 2 - 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Скругленный прямоугольник 1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cap="rnd" w="88920">
            <a:solidFill>
              <a:srgbClr val="0070c0"/>
            </a:solidFill>
            <a:custDash>
              <a:ds d="8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image-0bc9a12cbe1eaa043aaaee8eb67e89c11b82b3e74abde1838b0e3b31e58fc623-V.jpg"/>
          <p:cNvPicPr/>
          <p:nvPr/>
        </p:nvPicPr>
        <p:blipFill>
          <a:blip r:embed="rId1"/>
          <a:stretch/>
        </p:blipFill>
        <p:spPr>
          <a:xfrm>
            <a:off x="826920" y="907920"/>
            <a:ext cx="3529080" cy="5349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17917623003-materialy-dlya-tvorchestva-pugovitsy-yagodka-n5790.jpg"/>
          <p:cNvPicPr/>
          <p:nvPr/>
        </p:nvPicPr>
        <p:blipFill>
          <a:blip r:embed="rId2"/>
          <a:stretch/>
        </p:blipFill>
        <p:spPr>
          <a:xfrm>
            <a:off x="5651640" y="4221000"/>
            <a:ext cx="2690640" cy="2087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100-шт-1-handmade-атласная-лента-аппликациями-цветок-розы-смешанное-9-цветов-ремесла-шитья-для-бутика.png"/>
          <p:cNvPicPr/>
          <p:nvPr/>
        </p:nvPicPr>
        <p:blipFill>
          <a:blip r:embed="rId3"/>
          <a:stretch/>
        </p:blipFill>
        <p:spPr>
          <a:xfrm>
            <a:off x="4427640" y="1773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1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cap="rnd" w="88920">
            <a:solidFill>
              <a:srgbClr val="0070c0"/>
            </a:solidFill>
            <a:custDash>
              <a:ds d="8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image-98da740e23a9cc77606a3bb72e001b8c4fdd63f769d18bbe48b4b9092f3ccf53-V.jpg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1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cap="rnd" w="88920">
            <a:solidFill>
              <a:srgbClr val="0070c0"/>
            </a:solidFill>
            <a:custDash>
              <a:ds d="8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image-0b4ccf190f67ff6f2f2e2247d279cb479a4070637f17e9c9e13fd0e86605598d-V.jpg"/>
          <p:cNvPicPr/>
          <p:nvPr/>
        </p:nvPicPr>
        <p:blipFill>
          <a:blip r:embed="rId1"/>
          <a:stretch/>
        </p:blipFill>
        <p:spPr>
          <a:xfrm>
            <a:off x="468360" y="1268280"/>
            <a:ext cx="813600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1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cap="rnd" w="88920">
            <a:solidFill>
              <a:srgbClr val="0070c0"/>
            </a:solidFill>
            <a:custDash>
              <a:ds d="8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image-ce7484e480e7118aace1c45204f89cc921a2323085f5eaea0661a41331449798-V.jpg"/>
          <p:cNvPicPr/>
          <p:nvPr/>
        </p:nvPicPr>
        <p:blipFill>
          <a:blip r:embed="rId1"/>
          <a:stretch/>
        </p:blipFill>
        <p:spPr>
          <a:xfrm>
            <a:off x="468360" y="1268280"/>
            <a:ext cx="835164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1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cap="rnd" w="88920">
            <a:solidFill>
              <a:srgbClr val="0070c0"/>
            </a:solidFill>
            <a:custDash>
              <a:ds d="8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image-39eb8c6795dd5c522d573ed68ab163fb1f0822c1d172060d740ae4ae8a5fc696-V.jpg"/>
          <p:cNvPicPr/>
          <p:nvPr/>
        </p:nvPicPr>
        <p:blipFill>
          <a:blip r:embed="rId1"/>
          <a:stretch/>
        </p:blipFill>
        <p:spPr>
          <a:xfrm>
            <a:off x="4572000" y="981000"/>
            <a:ext cx="358452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95280" y="2421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ЯГОД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11280" y="429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ЦВЕТОЧ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19:41:09Z</dcterms:created>
  <dc:creator>Добрынина Оксана</dc:creator>
  <dc:description/>
  <dc:language>en-US</dc:language>
  <cp:lastModifiedBy>1</cp:lastModifiedBy>
  <dcterms:modified xsi:type="dcterms:W3CDTF">2015-04-22T20:54:23Z</dcterms:modified>
  <cp:revision>18</cp:revision>
  <dc:subject/>
  <dc:title>Слайд 1</dc:title>
</cp:coreProperties>
</file>